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30.png" ContentType="image/png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3CF-40A6-497F-BA8C-E487BAAC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F35-886E-4DD6-89E3-89ADA8C5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7DE-9F53-43BD-BA0C-8833824B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CC3-B717-4145-A777-CB6A10A1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A2FE-F632-4176-B656-FC60F8FA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F295-D82A-4EBA-A63F-632C6FD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4C3-7B49-4956-83DE-2DA4E55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849E-A8DC-4282-8B53-CF62C47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1A2F-069B-4704-B9BC-6EE39F42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DDB1-A646-44AE-AD64-8FF26EB4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F35A-14A7-4CA1-BA6C-0486D84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C3C-5CB1-4443-A184-D3C5E55F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8FDD-6C98-47E2-BDDD-DB6C70A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59A5-4444-40FF-BDA1-BCB30DC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307-56B7-4B63-A527-EFF1558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D048-7FA2-41A2-BD76-83ACE8DA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8153-C7C2-4F0F-A263-A224AF58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F75-74EF-4ED0-8DB0-B3260ABB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298-73F5-45FB-81B6-83E83330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338-05B6-4A52-AED0-5FD9D494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059-8874-4785-8E37-BBD89AB3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664-DF09-4381-86DD-6A32013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8B7-F9A6-4017-ADDF-00D2F95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84D-63A8-4C6F-AAED-0D2F645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D56-C1ED-444D-962F-D789F66475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9F2E-5C09-42EE-A73F-E52C30928C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ata Analysi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y I like to draw straigh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8200" y="1295280"/>
          <a:ext cx="677376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295280"/>
                    <a:ext cx="67737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8200" y="1297080"/>
          <a:ext cx="676440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297080"/>
                    <a:ext cx="67644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A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es are simple to comprehend and dr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re familiar with slope and intercept as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linearize many functions and plot them as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functions can be expressed as Taylor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aylor Se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295280"/>
          <a:ext cx="606096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0609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8080" y="2057400"/>
          <a:ext cx="3619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3619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38080" y="3043080"/>
          <a:ext cx="3483000" cy="91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043080"/>
                    <a:ext cx="34830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762120" y="3959280"/>
          <a:ext cx="3886200" cy="91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959280"/>
                    <a:ext cx="38862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38080" y="4954680"/>
          <a:ext cx="3427560" cy="91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954680"/>
                    <a:ext cx="342756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Equ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non linear function v = f(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=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= 2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5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=u/(u-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ant to transform the equation into y=mx+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63960" y="1284120"/>
          <a:ext cx="156672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960" y="1284120"/>
                    <a:ext cx="15667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28600" y="1905120"/>
          <a:ext cx="7848720" cy="405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905120"/>
                    <a:ext cx="784872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8001000" y="5257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57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2117880"/>
          <a:ext cx="8001000" cy="41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17880"/>
                    <a:ext cx="80010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703520" y="1325520"/>
          <a:ext cx="42876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1325520"/>
                    <a:ext cx="42876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8229600" y="3718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2117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90920" y="1284120"/>
          <a:ext cx="25146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84120"/>
                    <a:ext cx="25146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" y="1981080"/>
          <a:ext cx="8001000" cy="413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800100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29600" y="4952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1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ing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1752480"/>
          <a:ext cx="8381880" cy="432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381880" cy="43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04960" y="1101600"/>
          <a:ext cx="413856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4960" y="1101600"/>
                    <a:ext cx="41385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458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(y+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zyme Kine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990" t="0" r="990" b="0"/>
          <a:stretch/>
        </p:blipFill>
        <p:spPr>
          <a:xfrm>
            <a:off x="1371600" y="4000680"/>
            <a:ext cx="5562720" cy="1562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5715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gineers like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parameters for a 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pe of the lin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y interce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66680" y="2895480"/>
          <a:ext cx="429588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429588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095880" y="373392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(-5/2.5)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x 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143000" y="2457360"/>
          <a:ext cx="6076800" cy="356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57360"/>
                    <a:ext cx="607680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nzyme P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52880" y="1295280"/>
          <a:ext cx="198144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295280"/>
                    <a:ext cx="19814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70102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2670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*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3341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3733920"/>
            <a:ext cx="15242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is - 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earization of Enzyme Kine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76200" y="2133720"/>
          <a:ext cx="5886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2133720"/>
                    <a:ext cx="5886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57200" y="1219320"/>
          <a:ext cx="1981080" cy="10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19320"/>
                    <a:ext cx="198108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581280" y="1295280"/>
          <a:ext cx="4519800" cy="10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1295280"/>
                    <a:ext cx="45198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gineers often use logarithms to solve proble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a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 = x 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 =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arithms are the inverse functions of exponential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st important log ba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like to count in powers of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l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e likes to count in powers of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aybe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count in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are the important properties of log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(a*b) = log(a) +log(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(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= b*log(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care about log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e likes power law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k*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reason a,b,c are usually either integers, or nice fr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(y) = log(k)+a*log(u)+b*log(v)+c*log(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tty close to linear  - we can use linear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ckling in the Materials La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studying the problem we expect that buckling load (P) is a power law function of Radius R, and Length 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would you design an experiment for the pendulum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3623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2362320"/>
            <a:ext cx="8384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505320"/>
            <a:ext cx="53316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2743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76920"/>
            <a:ext cx="5105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Mass constant – vary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Length constant – vary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mass and length constant – vary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ere do log-log plots break dow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or more power la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=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(t)=-g/2*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+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=mgh+1/2*mv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685800" y="1219320"/>
          <a:ext cx="7620120" cy="47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620120" cy="47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4572000"/>
            <a:ext cx="68580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Make Trend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762120"/>
          <a:ext cx="7543800" cy="46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54380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1330200"/>
          <a:ext cx="769608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30200"/>
                    <a:ext cx="7696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re Extra Stuff on 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62120" y="1143000"/>
          <a:ext cx="769608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696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Make Trend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762120"/>
          <a:ext cx="753264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532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43000" y="3962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76440" y="3670200"/>
            <a:ext cx="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3680" y="2793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64160" y="19177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18288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38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581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2004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1828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5486400"/>
          <a:ext cx="22860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486400"/>
                    <a:ext cx="228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95680" y="5257800"/>
          <a:ext cx="2819520" cy="8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5257800"/>
                    <a:ext cx="28195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we evaluate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191120" y="1219320"/>
          <a:ext cx="3423960" cy="259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3423960" cy="25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" y="3914640"/>
          <a:ext cx="3422520" cy="29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914640"/>
                    <a:ext cx="342252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3962520"/>
          <a:ext cx="3427560" cy="2606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962520"/>
                    <a:ext cx="342756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33520" y="144792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se things is not like the other, one of these things does not be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ot e</a:t>
            </a:r>
            <a:r>
              <a:rPr b="0" lang="en-US" sz="4200" spc="-1" strike="noStrike" baseline="-25000">
                <a:solidFill>
                  <a:srgbClr val="006633"/>
                </a:solidFill>
                <a:latin typeface="Garamond"/>
              </a:rPr>
              <a:t>i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vs x</a:t>
            </a:r>
            <a:r>
              <a:rPr b="0" lang="en-US" sz="4200" spc="-1" strike="noStrike" baseline="-25000">
                <a:solidFill>
                  <a:srgbClr val="006633"/>
                </a:solidFill>
                <a:latin typeface="Garamond"/>
              </a:rPr>
              <a:t>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371600"/>
          <a:ext cx="753264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5326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5720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76440" y="4280040"/>
            <a:ext cx="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88620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3680" y="340344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64160" y="252720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572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114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809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4382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24680" y="2286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6095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ines have random, uncorrelate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idual Plo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486400" y="4038480"/>
          <a:ext cx="3427560" cy="260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038480"/>
                    <a:ext cx="342756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3520" y="3962520"/>
          <a:ext cx="3427200" cy="26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962520"/>
                    <a:ext cx="342720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895480" y="1523880"/>
          <a:ext cx="3427560" cy="260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1523880"/>
                    <a:ext cx="342756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1219320"/>
            <a:ext cx="4953240" cy="3124080"/>
          </a:xfrm>
          <a:prstGeom prst="ellipse">
            <a:avLst/>
          </a:prstGeom>
          <a:solidFill>
            <a:srgbClr val="00ff00">
              <a:alpha val="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295280"/>
          <a:ext cx="678168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7816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do we plot lin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295280"/>
          <a:ext cx="678168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67816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3716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23:09:50Z</dcterms:created>
  <dc:creator>Timothy Wetzel</dc:creator>
  <dc:description/>
  <dc:language>en-US</dc:language>
  <cp:lastModifiedBy>Timothy Wetzel</cp:lastModifiedBy>
  <dcterms:modified xsi:type="dcterms:W3CDTF">2009-07-10T03:20:12Z</dcterms:modified>
  <cp:revision>5</cp:revision>
  <dc:subject/>
  <dc:title>Data Analysis</dc:title>
</cp:coreProperties>
</file>